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150C1-FD2C-4CC0-975E-E11BDC63B7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83948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83948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16F7E-6AE1-4CA2-AABF-74C932A8EC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5640" y="364968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62A27-EE43-4890-A053-9CA6960ADB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2240" y="141264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0840" y="141264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2240" y="364968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0840" y="364968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19780-57A8-4AFC-B972-F692B09FAB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83948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83948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12560" y="158760"/>
            <a:ext cx="83962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83948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3FFBE-6B12-4C61-AFB1-AFB5AEEA1A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5640" y="364968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83948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83948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83948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5640" y="364968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52240" y="141264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0840" y="141264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52240" y="364968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0840" y="364968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83948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6B84F-4C44-4958-9888-A380B1B253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04C5B-4AC3-4A5D-9020-95C0F3D547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1FA4F-F573-487F-8250-16349C0D2F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12560" y="158760"/>
            <a:ext cx="83962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FAD7D-6D58-4C4A-9F8C-12A011E042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1B177-A304-4D8A-A3C0-45DEA7F15C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5640" y="364968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01232-5BC2-4342-A55D-CB72452097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83948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5DA2F-FD53-4839-858A-EAF55242B7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2600"/>
            <a:ext cx="9144000" cy="68407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-833" t="-1153" r="-833" b="-1729"/>
          <a:stretch/>
        </p:blipFill>
        <p:spPr>
          <a:xfrm>
            <a:off x="7834320" y="6311880"/>
            <a:ext cx="1035000" cy="30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83948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0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001"/>
              </a:spcBef>
              <a:buClr>
                <a:srgbClr val="3a0e6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001"/>
              </a:spcBef>
              <a:buClr>
                <a:srgbClr val="3a0e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001"/>
              </a:spcBef>
              <a:buClr>
                <a:srgbClr val="3a0e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412560" y="6422400"/>
            <a:ext cx="295740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3a0e66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Times New Roman"/>
                <a:ea typeface="新細明體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4176720" y="6392160"/>
            <a:ext cx="790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3a0e66"/>
                </a:solidFill>
                <a:latin typeface="Times New Roman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14A5-3248-40D3-B1D8-E7427FCBAE44}" type="slidenum">
              <a:rPr b="0" lang="de-DE" sz="1200" spc="-1" strike="noStrike">
                <a:solidFill>
                  <a:srgbClr val="3a0e66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0"/>
            <a:ext cx="9163080" cy="6854760"/>
            <a:chOff x="0" y="0"/>
            <a:chExt cx="9163080" cy="685476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63080" cy="685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rcRect l="-833" t="-1153" r="-833" b="-1729"/>
            <a:stretch/>
          </p:blipFill>
          <p:spPr>
            <a:xfrm>
              <a:off x="7834320" y="6311880"/>
              <a:ext cx="1035000" cy="30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2343240"/>
            <a:ext cx="8318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80880" y="6422400"/>
            <a:ext cx="295776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44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001"/>
              </a:spcBef>
              <a:buClr>
                <a:srgbClr val="3a0e6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001"/>
              </a:spcBef>
              <a:buClr>
                <a:srgbClr val="3a0e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001"/>
              </a:spcBef>
              <a:buClr>
                <a:srgbClr val="3a0e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2343240"/>
            <a:ext cx="8318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Change Lis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80520" y="4981320"/>
            <a:ext cx="831852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March 2006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140520" y="1413000"/>
            <a:ext cx="274140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Arial"/>
              </a:rPr>
              <a:t>Mov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be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08/06 to 10/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ldfinch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07/06 to 08/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rlin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08/06 to 09/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spe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06/06 to 07/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dset Bluetooth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ereo (HHB-180)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03/06 to 05/06 (Europ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Arial"/>
              </a:rPr>
              <a:t>Cancell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mes C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Arial"/>
              </a:rPr>
              <a:t>Changes vs. Roadmap from January 2006 </a:t>
            </a: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1413000"/>
            <a:ext cx="2647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Arial"/>
              </a:rPr>
              <a:t>New Produc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mes C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es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w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2920" y="1413000"/>
            <a:ext cx="2732040" cy="24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Arial"/>
              </a:rPr>
              <a:t>Product launch nam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ilippe: C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ift: EL7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ross C1A: EF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lysses B1: S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ndora B2: EF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mes B1: E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6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mes C5: CF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Arial"/>
              </a:rPr>
              <a:t>Most important changes in the B2B communication section:</a:t>
            </a: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125360"/>
            <a:ext cx="815328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eBIT Communication K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th information abo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Q Mo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Q-Siemens brand and strate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BIT product presenta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he large version (zip-file) includes trailers and should be unzipped and saved to a disc for best performance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 S.O.A. presenta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al presentation of the Call Control / Mobile Notifier feature of MP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is available for 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G2-native pho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16:57:02Z</dcterms:created>
  <dc:creator> </dc:creator>
  <dc:description/>
  <dc:language>en-US</dc:language>
  <cp:lastModifiedBy>dombrowskic</cp:lastModifiedBy>
  <dcterms:modified xsi:type="dcterms:W3CDTF">2006-03-02T14:25:49Z</dcterms:modified>
  <cp:revision>6</cp:revision>
  <dc:subject/>
  <dc:title>Change List</dc:title>
</cp:coreProperties>
</file>